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EFC-163D-490D-B2A4-A6C5FEAB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800-1362-44E1-B6BD-1C50B723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6AE-A954-40F3-994C-C512AF80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D7FD-974D-40A4-85D4-E05659AF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1ABA-73EA-4300-B187-117E6176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31FB-97DA-4B03-A745-781D11DB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6395-E0AF-4EF4-ABD8-D141D69F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A0EB-607D-4121-A786-DDFE15DB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C651-FAE4-480A-B3A0-A6165308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0819-5FC1-46FC-A16E-3E7F7921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004B-0761-4A8A-A70D-DAB5F6B9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236-5562-4B60-A242-C9CFF18E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B094-F316-41AC-8CE1-7BCCFFF6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113B-3A18-471E-BAA8-FBE3CED4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C012-F058-425F-B583-D0E2176F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63A1-72E4-400D-A969-A3014923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A70D-47E5-4825-A2BB-9BD86C75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6BF-3E7C-4F22-9B3F-3D9BF4F3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296-EE06-4953-8E43-ECABF2C8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685-0D51-4FA9-86BB-7C7ED4C1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7FD-AC14-40A3-8A93-9D604DB0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1DF-A4C7-4397-8077-669F9E42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50F1-039E-42FB-A702-8DCB89DB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73F3-F005-4514-9D29-0F64E1C0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85DB-ADB7-41F9-B9F4-400C65F7CE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D575-C566-4055-AA33-D0B3A4C54C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Life of Christ  - Part 2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“Sir, We Would See Jesus”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10, Lesson 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15,16,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gs.161-1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From The Last Lesson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sus ate the Last Passover with His dis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points out Judas as the betr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rns the disciples against deser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nstitutes the Memorial Supper for the King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gave a farewell discourse in that upper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ang a hymn as they left the upper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Discourse On The Way To Gethsemane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uit-bearing depends on close attachment to Jesus – Jno.15:1-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ve is a priority – 9-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of of real love – 13-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mises associated with love – 16-1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ffering and rejection should be expected – 15:18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ly Spirit: Witness of Jesus to Apostles -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ostles will stand as witnesses to the world -2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Discourse On The Way To Gethsemane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FLICT that will come to them from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worl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16:1-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UNSELOR (the Holy Spirit) that will come to them from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athe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5-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ly Spirit Purpo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ict sinners -8-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emn Satan –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nsel saints -12-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mpion the Savior -14-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Discourse On The Way To Gethsemane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fus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out not seeing Him again -16-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larific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His death and resurrection and the great joy to follow – 19-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mfor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Father’s love and provisions for them – 23-2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ol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Jesus’ victory over all the darkness they would face – 29-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Jesus’ Prayer to the Father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 prayer for Himself – 17:1-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ry from God that He Can Give Back to the 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 prayer for His disciples -6-1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unity – 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them joy – 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 them – 15-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nctify them - 1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Jesus’ Prayer to the Father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 Prayer For The Church -17:20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unity – 20-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honor of the Son – 21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display of God’s love – 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experience of Christ’s glory in heaven forever – 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relationship to God and Christ in His love -25-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4:03:48Z</dcterms:created>
  <dc:creator>Terry W. Benton</dc:creator>
  <dc:description/>
  <dc:language>en-US</dc:language>
  <cp:lastModifiedBy>Terry W. Benton</cp:lastModifiedBy>
  <dcterms:modified xsi:type="dcterms:W3CDTF">2006-08-22T15:03:47Z</dcterms:modified>
  <cp:revision>3</cp:revision>
  <dc:subject/>
  <dc:title>Life of Christ  - Part 2 “Sir, We Would See Jesus”</dc:title>
</cp:coreProperties>
</file>